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A70-D28B-4350-A40A-80E91F3D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B26-31CD-47E0-A63D-52BBCB7B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508-F64A-4646-8A98-A0724A0C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9B7-8993-4A8A-857B-4C840C8D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8DD-ABC7-4B41-89CB-8412C06F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0DD-2010-4E69-A87B-159A3B9A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815-1B6C-4258-AD6A-92A9010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13C-9276-455B-9E70-643B82BE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EF9-C0A2-4371-80B5-3630F07A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C16-B1D1-48A2-9E45-805F5CB7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78A-8938-4F7A-93F6-28FAF1F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809-A03D-4A21-8570-052B549A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839D-7DDA-4674-AE01-BEE7819DE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den-quartz-3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2857680" cy="4114800"/>
          </a:xfrm>
          <a:prstGeom prst="rect">
            <a:avLst/>
          </a:prstGeom>
          <a:ln w="0">
            <a:noFill/>
          </a:ln>
        </p:spPr>
      </p:pic>
      <p:pic>
        <p:nvPicPr>
          <p:cNvPr id="42" name="images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260640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malachite" descr=""/>
          <p:cNvPicPr/>
          <p:nvPr/>
        </p:nvPicPr>
        <p:blipFill>
          <a:blip r:embed="rId4"/>
          <a:stretch/>
        </p:blipFill>
        <p:spPr>
          <a:xfrm>
            <a:off x="5105520" y="304920"/>
            <a:ext cx="2206440" cy="212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0880" y="228600"/>
            <a:ext cx="411480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MINER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5" name="sulfur" descr=""/>
          <p:cNvPicPr/>
          <p:nvPr/>
        </p:nvPicPr>
        <p:blipFill>
          <a:blip r:embed="rId5"/>
          <a:srcRect l="21112" t="0" r="22224" b="11415"/>
          <a:stretch/>
        </p:blipFill>
        <p:spPr>
          <a:xfrm>
            <a:off x="3200400" y="2133720"/>
            <a:ext cx="28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cccc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687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C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OOKS LIKE METAL IN THE WAY THE MINERAL REFLECTS LIGHT  (GALENA OR PYR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71800" y="2286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ST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yrite" descr=""/>
          <p:cNvPicPr/>
          <p:nvPr/>
        </p:nvPicPr>
        <p:blipFill>
          <a:blip r:embed="rId1"/>
          <a:stretch/>
        </p:blipFill>
        <p:spPr>
          <a:xfrm>
            <a:off x="4800600" y="3111480"/>
            <a:ext cx="3278160" cy="2506680"/>
          </a:xfrm>
          <a:prstGeom prst="rect">
            <a:avLst/>
          </a:prstGeom>
          <a:ln w="0">
            <a:noFill/>
          </a:ln>
        </p:spPr>
      </p:pic>
      <p:pic>
        <p:nvPicPr>
          <p:cNvPr id="91" name="galena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9966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304920"/>
            <a:ext cx="72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ETAL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OES NOT LOOK LIKE POLISHED METAL, SO OTHER TERMS AR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905120"/>
            <a:ext cx="39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TRE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HINY, GLASSLIKE (QUART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quartz" descr=""/>
          <p:cNvPicPr/>
          <p:nvPr/>
        </p:nvPicPr>
        <p:blipFill>
          <a:blip r:embed="rId1"/>
          <a:stretch/>
        </p:blipFill>
        <p:spPr>
          <a:xfrm>
            <a:off x="457200" y="1430280"/>
            <a:ext cx="289548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457200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A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KS LIKE PEARLS WHEN LIGHT IS REFLECTED OFF OF THE SURFACE (O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oober" descr=""/>
          <p:cNvPicPr/>
          <p:nvPr/>
        </p:nvPicPr>
        <p:blipFill>
          <a:blip r:embed="rId2"/>
          <a:srcRect l="8071" t="7145" r="7150" b="14246"/>
          <a:stretch/>
        </p:blipFill>
        <p:spPr>
          <a:xfrm>
            <a:off x="4952880" y="3809880"/>
            <a:ext cx="35053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05320" y="26067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AR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 SHINE AT ALL (BAUX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0292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AMANT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BRILLIANT GLOW, BEAM OF LIGHT AT A CERTAIN ANGLE (DIAMON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auxite%20Ore_jpg" descr=""/>
          <p:cNvPicPr/>
          <p:nvPr/>
        </p:nvPicPr>
        <p:blipFill>
          <a:blip r:embed="rId1"/>
          <a:stretch/>
        </p:blipFill>
        <p:spPr>
          <a:xfrm>
            <a:off x="304920" y="2340000"/>
            <a:ext cx="2895480" cy="2176560"/>
          </a:xfrm>
          <a:prstGeom prst="rect">
            <a:avLst/>
          </a:prstGeom>
          <a:ln w="0">
            <a:noFill/>
          </a:ln>
        </p:spPr>
      </p:pic>
      <p:pic>
        <p:nvPicPr>
          <p:cNvPr id="100" name="images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A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ULL SHINE LIKE  CANDLE W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LFUR, OLIVIN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ulfur" descr=""/>
          <p:cNvPicPr/>
          <p:nvPr/>
        </p:nvPicPr>
        <p:blipFill>
          <a:blip r:embed="rId3"/>
          <a:stretch/>
        </p:blipFill>
        <p:spPr>
          <a:xfrm>
            <a:off x="5334120" y="304920"/>
            <a:ext cx="2819160" cy="2073240"/>
          </a:xfrm>
          <a:prstGeom prst="rect">
            <a:avLst/>
          </a:prstGeom>
          <a:ln w="0">
            <a:noFill/>
          </a:ln>
        </p:spPr>
      </p:pic>
      <p:pic>
        <p:nvPicPr>
          <p:cNvPr id="103" name="rock499" descr=""/>
          <p:cNvPicPr/>
          <p:nvPr/>
        </p:nvPicPr>
        <p:blipFill>
          <a:blip r:embed="rId4"/>
          <a:stretch/>
        </p:blipFill>
        <p:spPr>
          <a:xfrm>
            <a:off x="5334120" y="304920"/>
            <a:ext cx="2819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70040" y="1066680"/>
            <a:ext cx="57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OF A MINERALS POW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81952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 THE MINERAL AGAINST A STREAK PLATE AND  OBSERVE THE POWDER’S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95480" y="22860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EAK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images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189240" cy="276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17524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 YOU FIND THE STREAK COLOR OF A MINER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e9c5cc"/>
            </a:gs>
            <a:gs pos="100000">
              <a:srgbClr val="a5002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1066680"/>
            <a:ext cx="7102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VAGE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DENCY OF A MINERAL TO SEPARATE ALONG PLANES OF WEAK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LANE OF WEAKNESS   BASAL CLEAVAGE  (MIC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LANES OF CLEAVAGE AT 90*  (ORTHOCLA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5120" y="22860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EAKAGE PATTERN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572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Musca~56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879640" cy="3279600"/>
          </a:xfrm>
          <a:prstGeom prst="rect">
            <a:avLst/>
          </a:prstGeom>
          <a:ln w="0">
            <a:noFill/>
          </a:ln>
        </p:spPr>
      </p:pic>
      <p:pic>
        <p:nvPicPr>
          <p:cNvPr id="115" name="orthoclase" descr=""/>
          <p:cNvPicPr/>
          <p:nvPr/>
        </p:nvPicPr>
        <p:blipFill>
          <a:blip r:embed="rId2"/>
          <a:srcRect l="0" t="25203" r="0" b="0"/>
          <a:stretch/>
        </p:blipFill>
        <p:spPr>
          <a:xfrm>
            <a:off x="4876920" y="4648320"/>
            <a:ext cx="3124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6c7f"/>
            </a:gs>
            <a:gs pos="100000">
              <a:srgbClr val="a5002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4440" y="685800"/>
            <a:ext cx="86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LANES OF WEAKNESS AT 90* = CUBIC  (HAL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840" y="3505320"/>
            <a:ext cx="89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LANES NOT AT 90* = RHOMBOHEDRAL (CALC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alcite1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halite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3504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50000">
              <a:srgbClr val="efc3e0"/>
            </a:gs>
            <a:gs pos="100000">
              <a:srgbClr val="cc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685800"/>
            <a:ext cx="755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URE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PLANES OF WEAKNESS SO THE MINERAL BREAKS ALONG IRREGULAR SU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0574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HOID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RFACES ARE SOME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ED, SHELL-LIKE (QUART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choidal%20fracture" descr=""/>
          <p:cNvPicPr/>
          <p:nvPr/>
        </p:nvPicPr>
        <p:blipFill>
          <a:blip r:embed="rId1"/>
          <a:srcRect l="4213" t="19664" r="0" b="0"/>
          <a:stretch/>
        </p:blipFill>
        <p:spPr>
          <a:xfrm>
            <a:off x="1371600" y="3276720"/>
            <a:ext cx="51973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b7da"/>
            </a:gs>
            <a:gs pos="50000">
              <a:srgbClr val="cc3399"/>
            </a:gs>
            <a:gs pos="100000">
              <a:srgbClr val="ecb7d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E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OUGH SURFACE, NO DISTINGUIS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000" y="3809880"/>
            <a:ext cx="91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BR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JAGGED SURFACE LIKE FIBERS (WOLLASTONI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livineDunite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126" name="wollast1" descr=""/>
          <p:cNvPicPr/>
          <p:nvPr/>
        </p:nvPicPr>
        <p:blipFill>
          <a:blip r:embed="rId2"/>
          <a:srcRect l="6254" t="16665" r="6254" b="5551"/>
          <a:stretch/>
        </p:blipFill>
        <p:spPr>
          <a:xfrm>
            <a:off x="2743200" y="43434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1447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 TO BE SCRATCHED; IS VERY USEFUL SINCE A MINERAL’S HARDNESS IS CONST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66880" y="380880"/>
            <a:ext cx="3124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dnes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514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TO MEASURE HARDNESS WAS DEVELOPED BY FRIEDRICH MOH IN 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505320"/>
            <a:ext cx="66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NESS IS MEASURED ON A SCALE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THE LOWES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THE HIGH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02920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HARDNESS OF A MINERAL YOU MUST TRY TO SCRATCH THE  MINERAL AGAINST A GLASS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520" y="144792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INGERNAIL IS A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800" y="327672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ASS IS A 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1440" y="533520"/>
            <a:ext cx="4366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533520"/>
            <a:ext cx="6477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CUM POWDER, BABY POW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9480" y="1066680"/>
            <a:ext cx="64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P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 MATERIALS (SHEETR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6400" y="1676520"/>
            <a:ext cx="37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286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OR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THPA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FERTI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505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SP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R 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CHES, ABRAS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724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AZ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MSTONES (EMERA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34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UNDUM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MSTONES (RUBY &amp; SAPHI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94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OND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W BLADES, “AGIRL’S BEST FRIEN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L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ICAL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4880" y="103176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S ARE MADE UP OF SINGLE ELEMENTS OR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9040" y="2362320"/>
            <a:ext cx="19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8760" y="2327400"/>
            <a:ext cx="57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TANCE THAT CANNOT BE BROKEN DOWN TO ANY SIMPLER SUB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760" y="3886200"/>
            <a:ext cx="88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 MOST COMMON ELEMENTS IN THE EARTH’S CRU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040" y="464832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) OXYGEN   46%         3-8.)THE REMAINING 25% I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ED OF Al, Fe, Ca, Na, K, 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SILICON   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760" y="914400"/>
            <a:ext cx="32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ERAL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640" y="1981080"/>
            <a:ext cx="43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) NATURALLY OCCUR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560" y="266688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) DEFINITE CHEMICAL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3480" y="335268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) INORGANIC SO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3480" y="41911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) CRYSTALLINE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87692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) DEFINITE SET OF CHEMICAL AND 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32680" y="380880"/>
            <a:ext cx="56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slonOpnface BT"/>
                <a:ea typeface="Times New Roman"/>
              </a:rPr>
              <a:t>FAMILIES OF MIN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6680" y="1397160"/>
            <a:ext cx="84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Min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MPOSED OF SINGLE ELEMEN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9360" y="213372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(aurum)       G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89548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 (argentium)    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2860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680" y="3657600"/>
            <a:ext cx="33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 (cuprum)     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160" y="44956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                    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760" y="5181480"/>
            <a:ext cx="49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         GRAPHITE OR DIA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mages" descr=""/>
          <p:cNvPicPr/>
          <p:nvPr/>
        </p:nvPicPr>
        <p:blipFill>
          <a:blip r:embed="rId2"/>
          <a:stretch/>
        </p:blipFill>
        <p:spPr>
          <a:xfrm>
            <a:off x="4648320" y="2155680"/>
            <a:ext cx="2133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rotating_diamond" descr=""/>
          <p:cNvPicPr/>
          <p:nvPr/>
        </p:nvPicPr>
        <p:blipFill>
          <a:blip r:embed="rId3"/>
          <a:stretch/>
        </p:blipFill>
        <p:spPr>
          <a:xfrm>
            <a:off x="5943600" y="41911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533520"/>
            <a:ext cx="73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MINERALS ARE COMPOSED OF TWO OR MORE 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0000" y="220968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LITE (Na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mages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501640" cy="236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80200" y="502920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RTZ (Si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mages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195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27160" y="171756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AND SILICON COMBINE READILY WITH EACH OTHER AND WITH OTHER ELEMENTS TO FORM THIS FAMILY OF MIN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0840" y="316548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COMMON FAMILY OF MINERALS AND MAKE UP OVER 90% OF ALL MIN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50840" y="430848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OXYGEN AND SILICON ARE THE MOST COMMON ELEMENTS IN THE EARTH’S CR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43200" y="457200"/>
            <a:ext cx="3657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LICATES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066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NY MINERAL WHICH IS A SILICATE MUST CONTAIN Si (SILICON) AND O (OXYGEN) IN THEIR CHEMICAL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8195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CIRCLE ALL OF THE MINERALS ON YOUR NOTESHEET WHICH ARE SI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2600" y="3962520"/>
            <a:ext cx="50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CLASE                      AU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Z                                OLI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66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HYSICAL PROPERTIES OF MINERALS ARE A REFLECTION OF THE INTERNAL ARRANGEMENT OF THEIR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057400" y="60948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PROPERTI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e2_1" descr="Perovskite icon"/>
          <p:cNvPicPr/>
          <p:nvPr/>
        </p:nvPicPr>
        <p:blipFill>
          <a:blip r:embed="rId1"/>
          <a:stretch/>
        </p:blipFill>
        <p:spPr>
          <a:xfrm>
            <a:off x="3200400" y="3886200"/>
            <a:ext cx="21798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1219320"/>
            <a:ext cx="67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T USEFUL PROPERTY, CHANGE IN THE CHEMICAL FORMULA WILL VARY THE COLOR OF THE MINERAL. (QUART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80880"/>
            <a:ext cx="231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Rosenquarz" descr="Rose quartz"/>
          <p:cNvPicPr/>
          <p:nvPr/>
        </p:nvPicPr>
        <p:blipFill>
          <a:blip r:embed="rId1"/>
          <a:stretch/>
        </p:blipFill>
        <p:spPr>
          <a:xfrm>
            <a:off x="4572000" y="380988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3400" y="28954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SE QUA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INS TITANIUM OXIDE AND MANGANESE OXIDE TO MAKE A ROSE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quartz-corchia2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809880" cy="2306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3048120"/>
            <a:ext cx="24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STAL QUAR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3:12:26Z</dcterms:created>
  <dc:creator>Joe</dc:creator>
  <dc:description/>
  <dc:language>en-US</dc:language>
  <cp:lastModifiedBy>Lakeland</cp:lastModifiedBy>
  <dcterms:modified xsi:type="dcterms:W3CDTF">2007-10-29T16:16:57Z</dcterms:modified>
  <cp:revision>34</cp:revision>
  <dc:subject/>
  <dc:title>PowerPoint Presentation</dc:title>
</cp:coreProperties>
</file>